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E0228-829A-4FCF-89E9-A597A1F2E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53182-FDEC-4C24-88B6-3083609F5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7C3E3-E578-4B7C-B8FC-6C8FF0DE4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D1C54-4088-4642-8B48-48A667025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E5BC5-13D6-4EC6-94B1-72FF47B1B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EF379-3328-4110-BFC9-2A0DCACA0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DA53D-5FA6-4692-BDCE-C78797310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46E81-D58E-4FC0-B743-BABC245FB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792CC-3416-4534-9120-2F78A2F1A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01A13-A352-4FBB-8884-0C5E1FD4C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0F23E-907A-4FDB-B4D8-1631191C6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3247E-955B-4BD7-B9EB-ECF0BF552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37137-AC97-453C-950B-D267CAA48EE2}"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D182F-DF27-4B61-8B9C-3FDFE220EE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42680"/>
            <a:ext cx="784872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e1c11"/>
                </a:solidFill>
                <a:latin typeface="Calibri"/>
              </a:rPr>
              <a:t>CREDIT MECHANISM UNDER GST</a:t>
            </a:r>
            <a:endParaRPr b="0" lang="en-US" sz="3600" spc="-1" strike="noStrike">
              <a:solidFill>
                <a:srgbClr val="000000"/>
              </a:solidFill>
              <a:latin typeface="Calibri"/>
            </a:endParaRPr>
          </a:p>
        </p:txBody>
      </p:sp>
      <p:sp>
        <p:nvSpPr>
          <p:cNvPr id="42" name="TextBox 3"/>
          <p:cNvSpPr/>
          <p:nvPr/>
        </p:nvSpPr>
        <p:spPr>
          <a:xfrm>
            <a:off x="2743200" y="340992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V. RAGHURAMAN, B.Com, FCA, ACS, Grad.CWA, LL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Advocate</a:t>
            </a:r>
            <a:endParaRPr b="0" lang="en-US" sz="2000" spc="-1" strike="noStrike">
              <a:solidFill>
                <a:srgbClr val="000000"/>
              </a:solidFill>
              <a:latin typeface="Arial"/>
            </a:endParaRPr>
          </a:p>
        </p:txBody>
      </p:sp>
      <p:sp>
        <p:nvSpPr>
          <p:cNvPr id="43"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44" name="Slide Number Placeholder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26C3-6041-4464-8E62-4297D886C2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
          <p:cNvGraphicFramePr/>
          <p:nvPr/>
        </p:nvGraphicFramePr>
        <p:xfrm>
          <a:off x="228600" y="57240"/>
          <a:ext cx="8153280" cy="5126040"/>
        </p:xfrm>
        <a:graphic>
          <a:graphicData uri="http://schemas.openxmlformats.org/drawingml/2006/table">
            <a:tbl>
              <a:tblPr/>
              <a:tblGrid>
                <a:gridCol w="81532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nner of taking credit   </a:t>
                      </a:r>
                      <a:r>
                        <a:rPr b="1" lang="en-US" sz="1800" spc="-1" strike="noStrike">
                          <a:solidFill>
                            <a:srgbClr val="ffffff"/>
                          </a:solidFill>
                          <a:latin typeface="Calibri"/>
                        </a:rPr>
                        <a:t>	</a:t>
                      </a:r>
                      <a:r>
                        <a:rPr b="1" lang="en-US" sz="1800" spc="-1" strike="noStrike">
                          <a:solidFill>
                            <a:srgbClr val="ffffff"/>
                          </a:solidFill>
                          <a:latin typeface="Calibri"/>
                        </a:rPr>
                        <a:t>	</a:t>
                      </a:r>
                      <a:r>
                        <a:rPr b="1" lang="en-US" sz="1800" spc="-1" strike="noStrike">
                          <a:solidFill>
                            <a:srgbClr val="ffffff"/>
                          </a:solidFill>
                          <a:latin typeface="Calibri"/>
                        </a:rPr>
                        <a:t>	</a:t>
                      </a:r>
                      <a:r>
                        <a:rPr b="1" lang="en-US" sz="1800" spc="-1" strike="noStrike">
                          <a:solidFill>
                            <a:srgbClr val="ffffff"/>
                          </a:solidFill>
                          <a:latin typeface="Calibri"/>
                        </a:rPr>
                        <a:t>	</a:t>
                      </a:r>
                      <a:r>
                        <a:rPr b="1" lang="en-US" sz="1800" spc="-1" strike="noStrike">
                          <a:solidFill>
                            <a:srgbClr val="ffffff"/>
                          </a:solidFill>
                          <a:latin typeface="Calibri"/>
                        </a:rPr>
                        <a:t>	</a:t>
                      </a:r>
                      <a:r>
                        <a:rPr b="1" lang="en-US" sz="1800" spc="-1" strike="noStrike">
                          <a:solidFill>
                            <a:srgbClr val="ffffff"/>
                          </a:solidFill>
                          <a:latin typeface="Calibri"/>
                        </a:rPr>
                        <a:t> Section 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istered person shall be entitled to take credit of input tax credited to his electronic credit ledger – conditions, restrictions, manner of taking, time of taking credit would be prescrib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dit on input tax contained in stock, semi-finished goods or finished goods could be availed by a  person who has applied for registration under the Act within thirty days from the date on which he becomes liable to registration and has been granted such registration  - conditions and restrictions would be prescrib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egistered person, who ceases to be person liable to pay under composition and pays under normal scheme – Credit on input tax contained in stock, semi-finished goods or finished goods as on the date of such conversion could be availed - conditions and restrictions would be prescrib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credit shall be availed after one year from the date of invoice for those categories mentioned abo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ods / services are used partly for business and other purposes- to avail proportionate credit attributable to business- conditions, restrictions  and manner of computation would be prescrib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7"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78"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44FE-6177-4E59-9099-615CE3C7A5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
          <p:cNvGraphicFramePr/>
          <p:nvPr/>
        </p:nvGraphicFramePr>
        <p:xfrm>
          <a:off x="304920" y="209520"/>
          <a:ext cx="8153280" cy="4546800"/>
        </p:xfrm>
        <a:graphic>
          <a:graphicData uri="http://schemas.openxmlformats.org/drawingml/2006/table">
            <a:tbl>
              <a:tblPr/>
              <a:tblGrid>
                <a:gridCol w="8153280"/>
              </a:tblGrid>
              <a:tr h="370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tion 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5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re goods or services or both are used both for taxable and non taxable (excluding zero rated supplies such as exports) – proportionate credit to be availed. conditions, restrictions  and manner of computation would be prescrib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ral Government or State government would prescribe through notifications the manner in which credit can be attributed in business/non business or taxable/non taxable suppli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ansfer of credit allowed on account of change in constitution of the registered person subject to condition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4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triction on credit availment on:</a:t>
                      </a:r>
                      <a:endParaRPr b="0" lang="en-US" sz="1600" spc="-1" strike="noStrike">
                        <a:solidFill>
                          <a:srgbClr val="000000"/>
                        </a:solidFill>
                        <a:latin typeface="Arial"/>
                      </a:endParaRPr>
                    </a:p>
                    <a:p>
                      <a:pP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tor Vehicles</a:t>
                      </a:r>
                      <a:endParaRPr b="0" lang="en-US" sz="1600" spc="-1" strike="noStrike">
                        <a:solidFill>
                          <a:srgbClr val="000000"/>
                        </a:solidFill>
                        <a:latin typeface="Arial"/>
                      </a:endParaRPr>
                    </a:p>
                    <a:p>
                      <a:pP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ods and / or services provided in relation to food and beverages, outdoor catering, beauty treatment, health services, cosmetic and plastic surgery, membership of a club, health and fitness centre, life insurance, health insurance and travel benefits extended to employees on vacation such as leave or home travel concession, when such goods and/or services are used primarily for personal use or consumption of any employee </a:t>
                      </a:r>
                      <a:endParaRPr b="0" lang="en-US" sz="1600" spc="-1" strike="noStrike">
                        <a:solidFill>
                          <a:srgbClr val="000000"/>
                        </a:solidFill>
                        <a:latin typeface="Arial"/>
                      </a:endParaRPr>
                    </a:p>
                    <a:p>
                      <a:pPr>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80" name=""/>
          <p:cNvGraphicFramePr/>
          <p:nvPr/>
        </p:nvGraphicFramePr>
        <p:xfrm>
          <a:off x="304920" y="225360"/>
          <a:ext cx="4267080" cy="365040"/>
        </p:xfrm>
        <a:graphic>
          <a:graphicData uri="http://schemas.openxmlformats.org/drawingml/2006/table">
            <a:tbl>
              <a:tblPr/>
              <a:tblGrid>
                <a:gridCol w="42670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nner of taking credi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81"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82"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DD19-4B2C-40E1-AF85-36FADD2E4A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
          <p:cNvGraphicFramePr/>
          <p:nvPr/>
        </p:nvGraphicFramePr>
        <p:xfrm>
          <a:off x="304920" y="209520"/>
          <a:ext cx="8153280" cy="4668840"/>
        </p:xfrm>
        <a:graphic>
          <a:graphicData uri="http://schemas.openxmlformats.org/drawingml/2006/table">
            <a:tbl>
              <a:tblPr/>
              <a:tblGrid>
                <a:gridCol w="8153280"/>
              </a:tblGrid>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tion 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6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triction on credit availment 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Goods / services acquired by a principal in the execution of works contract resulting in construction of immovable property except plant and machine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goods acquired by a principal, the property in which is not transferred (whether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ods or in some other form) to any other person, which are used in the construction of immovable property, other than plant and machine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 goods and/or services on which tax has been paid under section 8;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 goods and/or services used for private or personal consumption, to the extent they are so consum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dit to the extent of depreciation on the tax component claimed under IT Act is not elig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84" name=""/>
          <p:cNvGraphicFramePr/>
          <p:nvPr/>
        </p:nvGraphicFramePr>
        <p:xfrm>
          <a:off x="304920" y="225360"/>
          <a:ext cx="4267080" cy="365040"/>
        </p:xfrm>
        <a:graphic>
          <a:graphicData uri="http://schemas.openxmlformats.org/drawingml/2006/table">
            <a:tbl>
              <a:tblPr/>
              <a:tblGrid>
                <a:gridCol w="42670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nner of taking credi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85"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86"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3FEBC-A620-4AA3-82C4-218234BDBA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 name=""/>
          <p:cNvGraphicFramePr/>
          <p:nvPr/>
        </p:nvGraphicFramePr>
        <p:xfrm>
          <a:off x="304920" y="209520"/>
          <a:ext cx="8153280" cy="4119480"/>
        </p:xfrm>
        <a:graphic>
          <a:graphicData uri="http://schemas.openxmlformats.org/drawingml/2006/table">
            <a:tbl>
              <a:tblPr/>
              <a:tblGrid>
                <a:gridCol w="8153280"/>
              </a:tblGrid>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tion 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56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Credit shall be availed unless:</a:t>
                      </a:r>
                      <a:endParaRPr b="0" lang="en-US" sz="1800" spc="-1" strike="noStrike">
                        <a:solidFill>
                          <a:srgbClr val="000000"/>
                        </a:solidFill>
                        <a:latin typeface="Arial"/>
                      </a:endParaRPr>
                    </a:p>
                    <a:p>
                      <a:pPr>
                        <a:lnSpc>
                          <a:spcPct val="10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erson taking credit is in possession of document such as invoice, debit note or other tax paying document</a:t>
                      </a:r>
                      <a:endParaRPr b="0" lang="en-US" sz="1800" spc="-1" strike="noStrike">
                        <a:solidFill>
                          <a:srgbClr val="000000"/>
                        </a:solidFill>
                        <a:latin typeface="Arial"/>
                      </a:endParaRPr>
                    </a:p>
                    <a:p>
                      <a:pPr>
                        <a:lnSpc>
                          <a:spcPct val="10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ods or services or both are received</a:t>
                      </a:r>
                      <a:endParaRPr b="0" lang="en-US" sz="1800" spc="-1" strike="noStrike">
                        <a:solidFill>
                          <a:srgbClr val="000000"/>
                        </a:solidFill>
                        <a:latin typeface="Arial"/>
                      </a:endParaRPr>
                    </a:p>
                    <a:p>
                      <a:pPr>
                        <a:lnSpc>
                          <a:spcPct val="10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x on such goods or services has been paid</a:t>
                      </a:r>
                      <a:endParaRPr b="0" lang="en-US" sz="1800" spc="-1" strike="noStrike">
                        <a:solidFill>
                          <a:srgbClr val="000000"/>
                        </a:solidFill>
                        <a:latin typeface="Arial"/>
                      </a:endParaRPr>
                    </a:p>
                    <a:p>
                      <a:pPr>
                        <a:lnSpc>
                          <a:spcPct val="10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return has been furnished under section 27;</a:t>
                      </a:r>
                      <a:endParaRPr b="0" lang="en-US" sz="1800" spc="-1" strike="noStrike">
                        <a:solidFill>
                          <a:srgbClr val="000000"/>
                        </a:solidFill>
                        <a:latin typeface="Arial"/>
                      </a:endParaRPr>
                    </a:p>
                    <a:p>
                      <a:pPr>
                        <a:lnSpc>
                          <a:spcPct val="10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goods are received in lots against an invoice, he can take credit on receipt of the last lo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91240">
                <a:tc>
                  <a:txBody>
                    <a:bodyPr lIns="90000" rIns="90000" tIns="46800" bIns="46800" anchor="t">
                      <a:noAutofit/>
                    </a:bodyPr>
                    <a:p>
                      <a:pPr marL="324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switching from regular scheme to composition scheme, or where goods or services becomes exempt absolutely, then credit  relating to inputs, inputs contained in FG and SFG as on switching date or exemption date shall be reversed by debit to credit or cash ledger. Balance credit if any shall lap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88" name=""/>
          <p:cNvGraphicFramePr/>
          <p:nvPr/>
        </p:nvGraphicFramePr>
        <p:xfrm>
          <a:off x="304920" y="225360"/>
          <a:ext cx="4267080" cy="365040"/>
        </p:xfrm>
        <a:graphic>
          <a:graphicData uri="http://schemas.openxmlformats.org/drawingml/2006/table">
            <a:tbl>
              <a:tblPr/>
              <a:tblGrid>
                <a:gridCol w="42670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nner of taking credi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89"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90"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8A40-612C-4526-B231-0129A128BB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04920" y="209520"/>
          <a:ext cx="8153280" cy="3667320"/>
        </p:xfrm>
        <a:graphic>
          <a:graphicData uri="http://schemas.openxmlformats.org/drawingml/2006/table">
            <a:tbl>
              <a:tblPr/>
              <a:tblGrid>
                <a:gridCol w="8153280"/>
              </a:tblGrid>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tion 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6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case of Supply of capital goods on which credit is availed, reverse credit by considering depreciation (as may be prescribed) or duty tax on transaction value whichever is hig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014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credit shall be availed  on the basis of any document issued in a financial year beyond  date of filing return for month of September in the next FY or filing of Annual return which ever is earli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ectively time limit for taking credit earliest of the following:</a:t>
                      </a:r>
                      <a:endParaRPr b="0" lang="en-US" sz="1800" spc="-1" strike="noStrike">
                        <a:solidFill>
                          <a:srgbClr val="000000"/>
                        </a:solidFill>
                        <a:latin typeface="Arial"/>
                      </a:endParaRPr>
                    </a:p>
                    <a:p>
                      <a:pPr marL="3430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e of filing of return for the month of September in next Financial Year </a:t>
                      </a:r>
                      <a:endParaRPr b="0" lang="en-US" sz="1800" spc="-1" strike="noStrike">
                        <a:solidFill>
                          <a:srgbClr val="000000"/>
                        </a:solidFill>
                        <a:latin typeface="Arial"/>
                      </a:endParaRPr>
                    </a:p>
                    <a:p>
                      <a:pPr marL="3430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e of filing of Annual return for the relevant current F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very provisions to be prescrib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92" name=""/>
          <p:cNvGraphicFramePr/>
          <p:nvPr/>
        </p:nvGraphicFramePr>
        <p:xfrm>
          <a:off x="304920" y="225360"/>
          <a:ext cx="4267080" cy="365040"/>
        </p:xfrm>
        <a:graphic>
          <a:graphicData uri="http://schemas.openxmlformats.org/drawingml/2006/table">
            <a:tbl>
              <a:tblPr/>
              <a:tblGrid>
                <a:gridCol w="42670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nner of taking credi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93"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94"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4929-6626-4DFA-974A-D4750879D0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 name=""/>
          <p:cNvGraphicFramePr/>
          <p:nvPr/>
        </p:nvGraphicFramePr>
        <p:xfrm>
          <a:off x="304920" y="209520"/>
          <a:ext cx="8153280" cy="4419720"/>
        </p:xfrm>
        <a:graphic>
          <a:graphicData uri="http://schemas.openxmlformats.org/drawingml/2006/table">
            <a:tbl>
              <a:tblPr/>
              <a:tblGrid>
                <a:gridCol w="8153280"/>
              </a:tblGrid>
              <a:tr h="37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teps in availment and utilisation of cred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vail credit provisionally after receipt of goods and invo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ier to file returns along with supply details and pay tax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ipient to file return along with inward details and pay tax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redits are correlated with respective supplier retu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dits which match to the vendor details are treated as finalis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dits not matched or excess on account of duplication etc. would be treated as tax payable and intimated to the recipient. Vendors also would be intimated about mismat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aid amount of credits not matched would be paid along with interest in the next mon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the vendor rectifies and uploads, to such an extent credit would be allowed and balance shall be payable with inter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6"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97"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10E79-8661-46B1-B7E9-B3C6460A54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304920" y="209520"/>
          <a:ext cx="8076960" cy="4484880"/>
        </p:xfrm>
        <a:graphic>
          <a:graphicData uri="http://schemas.openxmlformats.org/drawingml/2006/table">
            <a:tbl>
              <a:tblPr/>
              <a:tblGrid>
                <a:gridCol w="8076960"/>
              </a:tblGrid>
              <a:tr h="52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ob Work (16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cipal could claim input tax credit on inputs or capital goods where the inputs or capital goods sent to job worker or directly delivered by vendor to job work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cipal is the person who is responsible for accountability of goods and payment of tax as per section 43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0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aid inputs after processing shall have to be returned within 180 days from date of supply. Capital goods shall have to returned within 2 years from the date of supp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5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not received back within time prescribed, credit attributable to such inputs or capital goods shall be paid and on receipt can reclaim input tax credit and interest. How does he reclaim interest without filing a refund claim? It appears that Section 28 talks of re-credit of interest in electronic cash ledger and same analogy would work her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9"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00"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20386-7879-4751-A599-B72AF57655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304920" y="209520"/>
          <a:ext cx="8076960" cy="4594320"/>
        </p:xfrm>
        <a:graphic>
          <a:graphicData uri="http://schemas.openxmlformats.org/drawingml/2006/table">
            <a:tbl>
              <a:tblPr/>
              <a:tblGrid>
                <a:gridCol w="80769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put service distributor (Sec 1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739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The Input Service Distributor may distribute, in such manner as may be prescribed, the credit of CGST as IGST and IGST as IGST, by way of issue of a prescribed document containing, inter alia, the amount of input tax credit being distributed or being reduced thereafter, where the Distributor and the recipient of credit are located in different States; Where distribution is to a business vertical within that state, CGST or IGST can be distributed as CGS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11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The Input Service Distributor may distribute the credit subject to the follow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ditions, name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 credit can be distributed against a prescribed document issued to each of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ipients of the credit so distributed, and such invoice or other document shall contain such details as may be prescrib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 amount of the credit distributed shall not exceed the amount of credit available for distribu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02"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03"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2F18-8E46-4B26-A7DE-20E6D4B3D4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304920" y="209520"/>
          <a:ext cx="8076960" cy="3657600"/>
        </p:xfrm>
        <a:graphic>
          <a:graphicData uri="http://schemas.openxmlformats.org/drawingml/2006/table">
            <a:tbl>
              <a:tblPr/>
              <a:tblGrid>
                <a:gridCol w="8076960"/>
              </a:tblGrid>
              <a:tr h="52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1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the credit of tax paid on input services attributable to a supplier shall be distributed only to that suppli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the credit of tax paid on input services attributable to more than one supplier shall be distributed only amongst such supplier(s) to whom the input service is attributable and such distribution shall be </a:t>
                      </a:r>
                      <a:r>
                        <a:rPr b="0" i="1" lang="en-US" sz="1800" spc="-1" strike="noStrike">
                          <a:solidFill>
                            <a:srgbClr val="000000"/>
                          </a:solidFill>
                          <a:latin typeface="Calibri"/>
                        </a:rPr>
                        <a:t>pro rata on the basis of the turnover in a State of such </a:t>
                      </a:r>
                      <a:r>
                        <a:rPr b="0" lang="en-US" sz="1800" spc="-1" strike="noStrike">
                          <a:solidFill>
                            <a:srgbClr val="000000"/>
                          </a:solidFill>
                          <a:latin typeface="Calibri"/>
                        </a:rPr>
                        <a:t>supplier, during the relevant period, to the aggregate of the turnover of all such suppliers to whom such input service is attributable and which are operational in the current year, during the said relevant perio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05"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06"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1A8E-DDD5-442E-8D7B-5B62DCF146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 name=""/>
          <p:cNvGraphicFramePr/>
          <p:nvPr/>
        </p:nvGraphicFramePr>
        <p:xfrm>
          <a:off x="304920" y="209520"/>
          <a:ext cx="8076960" cy="3911760"/>
        </p:xfrm>
        <a:graphic>
          <a:graphicData uri="http://schemas.openxmlformats.org/drawingml/2006/table">
            <a:tbl>
              <a:tblPr/>
              <a:tblGrid>
                <a:gridCol w="8076960"/>
              </a:tblGrid>
              <a:tr h="52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ffffff"/>
                          </a:solidFill>
                          <a:latin typeface="Calibri"/>
                        </a:rPr>
                        <a:t>Recovery of ISD credit Sec 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IN" sz="2400" spc="-1" strike="noStrike">
                          <a:solidFill>
                            <a:srgbClr val="000000"/>
                          </a:solidFill>
                          <a:latin typeface="Calibri"/>
                        </a:rPr>
                        <a:t>When ISD credit is distributed in excess of what is available, it can be recovered with interest in manner specified in section 5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n ISD credit is distributed in excess to certain suppliers, it can be recovered form such suppliers with interest in manner as in Sec. 5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08"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09"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C194-BCB5-4B00-A2E7-677358A759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 name=""/>
          <p:cNvGraphicFramePr/>
          <p:nvPr/>
        </p:nvGraphicFramePr>
        <p:xfrm>
          <a:off x="380880" y="743040"/>
          <a:ext cx="8001000" cy="2967120"/>
        </p:xfrm>
        <a:graphic>
          <a:graphicData uri="http://schemas.openxmlformats.org/drawingml/2006/table">
            <a:tbl>
              <a:tblPr/>
              <a:tblGrid>
                <a:gridCol w="1067040"/>
                <a:gridCol w="69339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ital Goo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pu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5)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put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put service distribu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put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anner of taking input tax cred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46" name=""/>
          <p:cNvGraphicFramePr/>
          <p:nvPr/>
        </p:nvGraphicFramePr>
        <p:xfrm>
          <a:off x="304920" y="225360"/>
          <a:ext cx="8076960" cy="365040"/>
        </p:xfrm>
        <a:graphic>
          <a:graphicData uri="http://schemas.openxmlformats.org/drawingml/2006/table">
            <a:tbl>
              <a:tblPr/>
              <a:tblGrid>
                <a:gridCol w="80769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47"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48"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5D82-B73A-43EB-B315-77595A0320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304920" y="209520"/>
          <a:ext cx="8076960" cy="3932280"/>
        </p:xfrm>
        <a:graphic>
          <a:graphicData uri="http://schemas.openxmlformats.org/drawingml/2006/table">
            <a:tbl>
              <a:tblPr/>
              <a:tblGrid>
                <a:gridCol w="807696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Other provisio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2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ection 27(4) states that when return is filed without payment of full tax, the return is treated as not valid for allowing input tax credit in respect of supplies made to such person. Draconian provisions inde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ection 28 mentions that input tax credit credited is provisional as it would be subjected to further matching. Once matched it would be communicated to recipient as fin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11"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12"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C246-EB83-4D8A-9EB7-FD4E17F29C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3" name=""/>
          <p:cNvGraphicFramePr/>
          <p:nvPr/>
        </p:nvGraphicFramePr>
        <p:xfrm>
          <a:off x="304920" y="209520"/>
          <a:ext cx="8076960" cy="4572000"/>
        </p:xfrm>
        <a:graphic>
          <a:graphicData uri="http://schemas.openxmlformats.org/drawingml/2006/table">
            <a:tbl>
              <a:tblPr/>
              <a:tblGrid>
                <a:gridCol w="807696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Other provisio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1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ection 35 talks of utilisation of cash deposits and input tax credit which are found credited to the electronic cash ledger. It appears that the amounts of cash deposit can be utilised to pay tax, penalty, interest or any other amount due under the Act. Credit of IGST to be used for IGST, CGST and SGST in that order. Credit of CGST towards CGST first and remaining to IGST; Credit of SGST and CGST cannot be utilised for payment of CGST and SGST respectively.  When CGSt credit is utilised for payment of IGST, the corresponding amount is transferred to IGST account by the Central Government as prescribed in Section 37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14"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15"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2AE4-7E5F-470B-8422-213BEA7264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6" name=""/>
          <p:cNvGraphicFramePr/>
          <p:nvPr/>
        </p:nvGraphicFramePr>
        <p:xfrm>
          <a:off x="380880" y="133200"/>
          <a:ext cx="8305920" cy="4175280"/>
        </p:xfrm>
        <a:graphic>
          <a:graphicData uri="http://schemas.openxmlformats.org/drawingml/2006/table">
            <a:tbl>
              <a:tblPr/>
              <a:tblGrid>
                <a:gridCol w="830592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Transitional Provisions</a:t>
                      </a:r>
                      <a:r>
                        <a:rPr b="1" lang="en-US" sz="2400" spc="-1" strike="noStrike">
                          <a:solidFill>
                            <a:srgbClr val="ffffff"/>
                          </a:solidFill>
                          <a:latin typeface="Calibri"/>
                        </a:rPr>
                        <a:t>-  Section 143 &amp; 14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dit under Excise, Service Tax or VAT carried forward under the respective returns could be taken under GST credit ledge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08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availed credit of duty  / tax on capital goods  (not carried forward in return) under earlier laws could be availed as credit under GST law (capital goods as defined under CCR,2004). This should take care of the 50% rul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08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son shall not be allowed to take credit unless the said amount was admissible as cenvat credit under the earlier law and is also admissible as input tax credit under this Ac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If credit carried forward found to be recoverable in terms of the proceedings initiated under earlier law, the same shall be treated as tax recoverable under GS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17"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18"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BF6C-9FD2-4D2C-BB59-C3FAF89758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 name=""/>
          <p:cNvGraphicFramePr/>
          <p:nvPr/>
        </p:nvGraphicFramePr>
        <p:xfrm>
          <a:off x="380880" y="285840"/>
          <a:ext cx="8305920" cy="4359240"/>
        </p:xfrm>
        <a:graphic>
          <a:graphicData uri="http://schemas.openxmlformats.org/drawingml/2006/table">
            <a:tbl>
              <a:tblPr/>
              <a:tblGrid>
                <a:gridCol w="830592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Transitional Provisions</a:t>
                      </a:r>
                      <a:r>
                        <a:rPr b="1" lang="en-US" sz="2400" spc="-1" strike="noStrike">
                          <a:solidFill>
                            <a:srgbClr val="ffffff"/>
                          </a:solidFill>
                          <a:latin typeface="Calibri"/>
                        </a:rPr>
                        <a:t>-  Section 14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8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t; A registered taxable person, who was not liable to be registered under the earlier law  </a:t>
                      </a:r>
                      <a:r>
                        <a:rPr b="0" lang="en-US" sz="2800" spc="-1" strike="noStrike">
                          <a:solidFill>
                            <a:srgbClr val="000000"/>
                          </a:solidFill>
                          <a:latin typeface="Calibri"/>
                        </a:rPr>
                        <a:t>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t; who was engaged in the manufacture of exempted goods under the earlier law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t; but which are liable to tax under GST, shall be entitled to take, credit of eligible duties and taxes in respect of inputs held in stock and inputs contained in semi-finished or finished goods held in stock on the appointed da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milar provisions under SGST also similar provision for availing credit of VAT on goods in stock</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20"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21"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DEEC-51CD-40C0-8965-C4E071675F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 name=""/>
          <p:cNvGraphicFramePr/>
          <p:nvPr/>
        </p:nvGraphicFramePr>
        <p:xfrm>
          <a:off x="380880" y="285840"/>
          <a:ext cx="8305920" cy="4297320"/>
        </p:xfrm>
        <a:graphic>
          <a:graphicData uri="http://schemas.openxmlformats.org/drawingml/2006/table">
            <a:tbl>
              <a:tblPr/>
              <a:tblGrid>
                <a:gridCol w="830592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Transitional Provisions</a:t>
                      </a:r>
                      <a:r>
                        <a:rPr b="1" lang="en-US" sz="2400" spc="-1" strike="noStrike">
                          <a:solidFill>
                            <a:srgbClr val="ffffff"/>
                          </a:solidFill>
                          <a:latin typeface="Calibri"/>
                        </a:rPr>
                        <a:t>-  Section 14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nditions for availment of credit relating to goods in stock</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3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 </a:t>
                      </a:r>
                      <a:r>
                        <a:rPr b="0" lang="en-US" sz="1800" spc="-1" strike="noStrike">
                          <a:solidFill>
                            <a:srgbClr val="000000"/>
                          </a:solidFill>
                          <a:latin typeface="Calibri"/>
                        </a:rPr>
                        <a:t>(i) such inputs and / or goods are used or intended to be used for making taxable supplies under this A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 the said taxable person was eligible for input tax credit on purchase of such inputs and/or goods under the earlier law but for his not being liable for registration or the goods remaining exempt under the said la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i) the said taxable person is eligible for input tax credit under this A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v) the said taxable person is in possession of invoice and/or other prescribed documents evidencing payment of tax under the earlier law in respect of inputs held in stock and inputs contained in semi-finished or finished goods held in stock on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ointed day;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 such invoice and /or other prescribed documents were issued not earlier than twelve months immediately preceding the appointed 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23"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24"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0518-227F-4563-A75F-FA6F5938BF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380880" y="285840"/>
          <a:ext cx="8305920" cy="3200400"/>
        </p:xfrm>
        <a:graphic>
          <a:graphicData uri="http://schemas.openxmlformats.org/drawingml/2006/table">
            <a:tbl>
              <a:tblPr/>
              <a:tblGrid>
                <a:gridCol w="830592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Transitional Provisions</a:t>
                      </a:r>
                      <a:r>
                        <a:rPr b="1" lang="en-US" sz="2400" spc="-1" strike="noStrike">
                          <a:solidFill>
                            <a:srgbClr val="ffffff"/>
                          </a:solidFill>
                          <a:latin typeface="Calibri"/>
                        </a:rPr>
                        <a:t>-  Section 14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nditions for availment of credit relating to goods in stock</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 </a:t>
                      </a:r>
                      <a:r>
                        <a:rPr b="0" lang="en-US" sz="1800" spc="-1" strike="noStrike">
                          <a:solidFill>
                            <a:srgbClr val="000000"/>
                          </a:solidFill>
                          <a:latin typeface="Calibri"/>
                        </a:rPr>
                        <a:t>(3) The amount taken as credit under sub-section (1) shall be recovered as an arrear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x under this Act from the taxable person if the said amount is found to be recoverable as a result of any proceeding instituted, whether before or after the appointed day, against such person under the earlier la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sub-section has no relevance as no credit has been availed under earlier law and hence no proceedings could be initiated under earlier law. In fact credit has been availed under the GST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26"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27"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BA62-19E3-4456-A73A-1CC30D6D1E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 name=""/>
          <p:cNvGraphicFramePr/>
          <p:nvPr/>
        </p:nvGraphicFramePr>
        <p:xfrm>
          <a:off x="380880" y="209520"/>
          <a:ext cx="8305920" cy="4754520"/>
        </p:xfrm>
        <a:graphic>
          <a:graphicData uri="http://schemas.openxmlformats.org/drawingml/2006/table">
            <a:tbl>
              <a:tblPr/>
              <a:tblGrid>
                <a:gridCol w="830592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Transitional Provisions</a:t>
                      </a:r>
                      <a:r>
                        <a:rPr b="1" lang="en-US" sz="2400" spc="-1" strike="noStrike">
                          <a:solidFill>
                            <a:srgbClr val="ffffff"/>
                          </a:solidFill>
                          <a:latin typeface="Calibri"/>
                        </a:rPr>
                        <a:t>-  Section 146 ,147, 148 &amp; 14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milar provisions for person who was paying taxes under composition scheme under current scheme and pays taxes under regular scheme under GST –S. 146</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34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A person paying taxes under regular scheme under current scheme but wish to opt for composition scheme under GST, then credit available in the return before appointed date shall be reversed or paid by cash. – S. 147</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69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Where exempted / dutiable goods are cleared under current law (clearance shall be within 6 months prior to appointed date) are returned to within 6 months from appointed date, no GST shall be payable on such return of goods. In other cases, person returning shall have to pay GST- duty earlier (if) paid could be claimed as credit</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29"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30"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2D70-788A-452C-A712-64060BF122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
          <p:cNvGraphicFramePr/>
          <p:nvPr/>
        </p:nvGraphicFramePr>
        <p:xfrm>
          <a:off x="380880" y="209520"/>
          <a:ext cx="8305920" cy="4029120"/>
        </p:xfrm>
        <a:graphic>
          <a:graphicData uri="http://schemas.openxmlformats.org/drawingml/2006/table">
            <a:tbl>
              <a:tblPr/>
              <a:tblGrid>
                <a:gridCol w="830592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Transitional Provisions</a:t>
                      </a:r>
                      <a:r>
                        <a:rPr b="1" lang="en-US" sz="2400" spc="-1" strike="noStrike">
                          <a:solidFill>
                            <a:srgbClr val="ffffff"/>
                          </a:solidFill>
                          <a:latin typeface="Calibri"/>
                        </a:rPr>
                        <a:t>-  Section 150, 151 &amp; 15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ods sent for job work prior to appointed dat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57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f returned within 6 months from appointed date or extended date (extension at the request of the assessee)- No GST payable on return [ to avail this benefit , inputs held by job worker on behalf of principle manufacturer shall have to be declare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08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If returned after 6 months Job worker  as well as manufacture to pay duty if the inputs sent are liable to GST. It appears to be a case for covering either of them.</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3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32"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33"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6B90A-CA9E-4FEC-97AA-020E5985BC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 name=""/>
          <p:cNvGraphicFramePr/>
          <p:nvPr/>
        </p:nvGraphicFramePr>
        <p:xfrm>
          <a:off x="380880" y="209520"/>
          <a:ext cx="8305920" cy="2743200"/>
        </p:xfrm>
        <a:graphic>
          <a:graphicData uri="http://schemas.openxmlformats.org/drawingml/2006/table">
            <a:tbl>
              <a:tblPr/>
              <a:tblGrid>
                <a:gridCol w="830592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Transitional Provisions</a:t>
                      </a:r>
                      <a:r>
                        <a:rPr b="1" lang="en-US" sz="2400" spc="-1" strike="noStrike">
                          <a:solidFill>
                            <a:srgbClr val="ffffff"/>
                          </a:solidFill>
                          <a:latin typeface="Calibri"/>
                        </a:rPr>
                        <a:t>-  Section 15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appeal, revision, review or reference relating to a clai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CENVAT credit / input tax shall be disposed off under the provisions of the current law applicable and if credit is eligible same shall be refunded in cash to assessee. If assessee found not eligible to be recovered as arrears of tax  under GST with no facility of credi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35"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36"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5CA8-87E3-4860-8D5B-C7482725D7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380880" y="209520"/>
          <a:ext cx="8305920" cy="4297320"/>
        </p:xfrm>
        <a:graphic>
          <a:graphicData uri="http://schemas.openxmlformats.org/drawingml/2006/table">
            <a:tbl>
              <a:tblPr/>
              <a:tblGrid>
                <a:gridCol w="830592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ffffff"/>
                          </a:solidFill>
                          <a:latin typeface="Calibri"/>
                        </a:rPr>
                        <a:t>Transitional Provisions</a:t>
                      </a:r>
                      <a:r>
                        <a:rPr b="1" lang="en-US" sz="2400" spc="-1" strike="noStrike">
                          <a:solidFill>
                            <a:srgbClr val="ffffff"/>
                          </a:solidFill>
                          <a:latin typeface="Calibri"/>
                        </a:rPr>
                        <a:t>-  Section 162 &amp; 162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withstanding anything to the contrary contained in this Act, the input tax credit on account of any services received prior to the appointed day by an Input Service Distributor shall be eligible for distribution as credit under this Act even if the invoice(s) relating to such services is received on or after the appointed da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22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2A.Tax paid on goods lying with agents to be allowed as credi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any goods belonging to the principal are lying at the premises of the agent on the appointed day, the agent shall be entitled to take credit of the tax paid on such goods subject to fulfilment of the following conditio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38"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39"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BD07-6505-40A5-BB3F-33A840D98A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380880" y="743040"/>
          <a:ext cx="8153640" cy="4124160"/>
        </p:xfrm>
        <a:graphic>
          <a:graphicData uri="http://schemas.openxmlformats.org/drawingml/2006/table">
            <a:tbl>
              <a:tblPr/>
              <a:tblGrid>
                <a:gridCol w="8153640"/>
              </a:tblGrid>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 “capital goods” me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 following goods, name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all goods falling within Chapter 82, Chapter 84, Chapter 85, Chapter 90, hea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05, grinding wheels and the like, and parts thereof falling under heading 6804 of theSchedule to this A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 pollution control equip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i) components, spares and accessories of the goods specified at (i) and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v) moulds and dies, jigs and fixtu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 refractories and refractory materi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 tubes and pipes and fittings there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i) storage tank;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ii) motor vehicles other than those falling under tariff headings 8702, 8703, 870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711 and their chassis but including dumpers and tipp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50" name=""/>
          <p:cNvGraphicFramePr/>
          <p:nvPr/>
        </p:nvGraphicFramePr>
        <p:xfrm>
          <a:off x="304920" y="225360"/>
          <a:ext cx="1828800" cy="365040"/>
        </p:xfrm>
        <a:graphic>
          <a:graphicData uri="http://schemas.openxmlformats.org/drawingml/2006/table">
            <a:tbl>
              <a:tblPr/>
              <a:tblGrid>
                <a:gridCol w="1828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PITAL GOO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51"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52"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5B2A-E355-4DE6-9C7C-A002DD99C4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 name=""/>
          <p:cNvGraphicFramePr/>
          <p:nvPr/>
        </p:nvGraphicFramePr>
        <p:xfrm>
          <a:off x="380880" y="209520"/>
          <a:ext cx="8305920" cy="4297320"/>
        </p:xfrm>
        <a:graphic>
          <a:graphicData uri="http://schemas.openxmlformats.org/drawingml/2006/table">
            <a:tbl>
              <a:tblPr/>
              <a:tblGrid>
                <a:gridCol w="830592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redit  under IGST law- Section 8 of IGS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en-US" sz="2400" spc="-1" strike="noStrike">
                          <a:solidFill>
                            <a:srgbClr val="000000"/>
                          </a:solidFill>
                          <a:latin typeface="Calibri"/>
                        </a:rPr>
                        <a:t>) Every registered taxable person shall, subject to such conditions and restrictions as may be prescribed in this behalf, be entitled to take credit of input tax, as selfassessed, in his return and such amount shall be credited, on a provisional basis, to his electronic credit ledger to be maintained in the manner as may be prescribe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57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he provisions of section 29 of the CGST Act, 2016 relating to matching, reversal and reclaim of input tax credit shall apply mutatis mutandis to the matching, reversal and reclaim of input tax credit under this secti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41"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42"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BD6F-B190-47BE-A2FB-487E0E4769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3520" y="438120"/>
          <a:ext cx="8381880" cy="4191120"/>
        </p:xfrm>
        <a:graphic>
          <a:graphicData uri="http://schemas.openxmlformats.org/drawingml/2006/table">
            <a:tbl>
              <a:tblPr/>
              <a:tblGrid>
                <a:gridCol w="8381880"/>
              </a:tblGrid>
              <a:tr h="63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redit  under IGST law- Section 7(5) of IGS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5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tilisation of IGST cred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hall first be utilized towards payment of IGST and the amount remaining, if any, may be utilized towards the payment of CGST and SGST, in that ord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 The amount of input tax credit on account of CGST available in the electronic credit ledger shall first be utilized towards payment of CGST and the amount remaining, if any,may be utilized towards the payment of IGS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 The amount of input tax credit on account of SGST available in the electronic credit ledger shall first be utilized towards payment of SGST and the amount remaining, if any, may be utilized towards the payment of IGS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44"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45"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43358-639E-419E-871A-E41D0A238A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609480" y="743040"/>
          <a:ext cx="8305920" cy="2743200"/>
        </p:xfrm>
        <a:graphic>
          <a:graphicData uri="http://schemas.openxmlformats.org/drawingml/2006/table">
            <a:tbl>
              <a:tblPr/>
              <a:tblGrid>
                <a:gridCol w="830592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redit  under IGST law- Section 7(5) of IGS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The balance in the cash or credit ledger after payment of tax, interest, penalty, fee or any other amount payable under the Act or the rules made thereunder may be refunded in accordance with the provisions of section 38 of the CGST Act and the amount collected as IGST shall stand reduced to that exten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47"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48"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91A1-DF30-4FE9-9FBA-6E719A424E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371600"/>
            <a:ext cx="8229600" cy="322272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Questions ??</a:t>
            </a:r>
            <a:endParaRPr b="0" lang="en-US" sz="3200" spc="-1" strike="noStrike">
              <a:solidFill>
                <a:srgbClr val="000000"/>
              </a:solidFill>
              <a:latin typeface="Calibri"/>
            </a:endParaRPr>
          </a:p>
        </p:txBody>
      </p:sp>
      <p:sp>
        <p:nvSpPr>
          <p:cNvPr id="150" name="Footer Placeholder 2"/>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51" name="Slide Number Placeholder 3"/>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D3E07-905C-49F2-8A20-71F9A5073E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4"/>
          <p:cNvSpPr/>
          <p:nvPr/>
        </p:nvSpPr>
        <p:spPr>
          <a:xfrm>
            <a:off x="304920" y="1962000"/>
            <a:ext cx="8229600" cy="1067400"/>
          </a:xfrm>
          <a:prstGeom prst="rect">
            <a:avLst/>
          </a:prstGeom>
          <a:noFill/>
          <a:ln w="0">
            <a:noFill/>
          </a:ln>
        </p:spPr>
        <p:style>
          <a:lnRef idx="0"/>
          <a:fillRef idx="0"/>
          <a:effectRef idx="0"/>
          <a:fontRef idx="minor"/>
        </p:style>
        <p:txBody>
          <a:bodyPr lIns="76680" rIns="76680" tIns="38160" bIns="38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0253f"/>
                </a:solidFill>
                <a:latin typeface="Garamond"/>
              </a:rPr>
              <a:t>V. RAGHURAMAN, </a:t>
            </a:r>
            <a:r>
              <a:rPr b="1" lang="en-US" sz="2000" spc="-1" strike="noStrike">
                <a:solidFill>
                  <a:srgbClr val="10253f"/>
                </a:solidFill>
                <a:latin typeface="Garamond"/>
              </a:rPr>
              <a:t>Advocate</a:t>
            </a:r>
            <a:r>
              <a:rPr b="1" lang="en-US" sz="2500" spc="-1" strike="noStrike">
                <a:solidFill>
                  <a:srgbClr val="10253f"/>
                </a:solidFill>
                <a:latin typeface="Garamond"/>
              </a:rPr>
              <a:t>  </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253f"/>
                </a:solidFill>
                <a:latin typeface="Garamond"/>
              </a:rPr>
              <a:t>B.Com, FCA, LLB, ACS, Grad.CW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Rectangle 2"/>
          <p:cNvSpPr/>
          <p:nvPr/>
        </p:nvSpPr>
        <p:spPr>
          <a:xfrm>
            <a:off x="1219320" y="743040"/>
            <a:ext cx="6476760" cy="696960"/>
          </a:xfrm>
          <a:prstGeom prst="rect">
            <a:avLst/>
          </a:prstGeom>
          <a:noFill/>
          <a:ln w="0">
            <a:noFill/>
          </a:ln>
        </p:spPr>
        <p:style>
          <a:lnRef idx="0"/>
          <a:fillRef idx="0"/>
          <a:effectRef idx="0"/>
          <a:fontRef idx="minor"/>
        </p:style>
        <p:txBody>
          <a:bodyPr lIns="76680" rIns="76680" tIns="38160" bIns="3816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Bookman Old Style"/>
              </a:rPr>
              <a:t>Thank You</a:t>
            </a:r>
            <a:endParaRPr b="0" lang="en-US" sz="4400" spc="-1" strike="noStrike">
              <a:solidFill>
                <a:srgbClr val="000000"/>
              </a:solidFill>
              <a:latin typeface="Arial"/>
            </a:endParaRPr>
          </a:p>
        </p:txBody>
      </p:sp>
      <p:sp>
        <p:nvSpPr>
          <p:cNvPr id="154" name="Rectangle 3"/>
          <p:cNvSpPr/>
          <p:nvPr/>
        </p:nvSpPr>
        <p:spPr>
          <a:xfrm>
            <a:off x="2057400" y="3714840"/>
            <a:ext cx="5105520" cy="457200"/>
          </a:xfrm>
          <a:prstGeom prst="rect">
            <a:avLst/>
          </a:prstGeom>
          <a:noFill/>
          <a:ln w="0">
            <a:noFill/>
          </a:ln>
        </p:spPr>
        <p:style>
          <a:lnRef idx="0"/>
          <a:fillRef idx="0"/>
          <a:effectRef idx="0"/>
          <a:fontRef idx="minor"/>
        </p:style>
        <p:txBody>
          <a:bodyPr lIns="76680" rIns="76680" tIns="38160" bIns="38160" anchor="t">
            <a:noAutofit/>
          </a:bodyPr>
          <a:p>
            <a:pPr marL="227160" indent="-22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030a0"/>
                </a:solidFill>
                <a:latin typeface="Arial"/>
              </a:rPr>
              <a:t>Email id :  vraghuraman@vraghuraman.in</a:t>
            </a:r>
            <a:endParaRPr b="0" lang="en-US" sz="2100" spc="-1" strike="noStrike">
              <a:solidFill>
                <a:srgbClr val="000000"/>
              </a:solidFill>
              <a:latin typeface="Arial"/>
            </a:endParaRPr>
          </a:p>
          <a:p>
            <a:pPr marL="227160" indent="-227160">
              <a:spcBef>
                <a:spcPts val="499"/>
              </a:spcBef>
              <a:buClr>
                <a:srgbClr val="4f81b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5" name="Footer Placeholder 5"/>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156" name="Slide Number Placeholder 6"/>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177BF-AF2C-41EF-A040-25D526020F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2"/>
                                        </p:tgtEl>
                                        <p:attrNameLst>
                                          <p:attrName>style.visibility</p:attrName>
                                        </p:attrNameLst>
                                      </p:cBhvr>
                                      <p:to>
                                        <p:strVal val="visible"/>
                                      </p:to>
                                    </p:set>
                                    <p:animEffect filter="blinds(horizontal)" transition="in">
                                      <p:cBhvr additive="repl">
                                        <p:cTn id="7"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
          <p:cNvGraphicFramePr/>
          <p:nvPr/>
        </p:nvGraphicFramePr>
        <p:xfrm>
          <a:off x="380880" y="743040"/>
          <a:ext cx="8153640" cy="4348080"/>
        </p:xfrm>
        <a:graphic>
          <a:graphicData uri="http://schemas.openxmlformats.org/drawingml/2006/table">
            <a:tbl>
              <a:tblPr/>
              <a:tblGrid>
                <a:gridCol w="815364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 “capital goods” me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the place of business for supply of goods;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outside the place of business for generation of electricity for captive use at the place of business;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for supply of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1" lang="en-US" sz="1800" spc="-1" strike="noStrike">
                          <a:solidFill>
                            <a:srgbClr val="000000"/>
                          </a:solidFill>
                          <a:latin typeface="Calibri"/>
                        </a:rPr>
                        <a:t>B) motor vehicle designed for transportation of goods including their chassis regist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name of the supplier of service, when used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supplying the service of renting of such motor vehicle;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 transportation of inputs and capital goods used for supply of service;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i) supply of courier agency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54" name=""/>
          <p:cNvGraphicFramePr/>
          <p:nvPr/>
        </p:nvGraphicFramePr>
        <p:xfrm>
          <a:off x="304920" y="225360"/>
          <a:ext cx="1828800" cy="365040"/>
        </p:xfrm>
        <a:graphic>
          <a:graphicData uri="http://schemas.openxmlformats.org/drawingml/2006/table">
            <a:tbl>
              <a:tblPr/>
              <a:tblGrid>
                <a:gridCol w="1828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PITAL GOO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55"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56"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155C3-A0FC-42FF-A6C3-A2ABE63399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 name=""/>
          <p:cNvGraphicFramePr/>
          <p:nvPr/>
        </p:nvGraphicFramePr>
        <p:xfrm>
          <a:off x="380880" y="743040"/>
          <a:ext cx="8153640" cy="384480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motor vehicle designed to carry passengers including their chassis, registered in the name of the supplier of service, when used for supplying the servic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transportation of passengers;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 renting of such motor vehicle;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i) imparting motor driving skil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01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Components, spares and accessories of motor vehicles which are capital goods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axable per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ace of business defined in 2(75) to include place from which business is ordinarily carried on including warehouse, godown or any other place where he receives or provides goods/services; a place where books of account is maintained; or a place where taxable person is engaged in business through an ag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58" name=""/>
          <p:cNvGraphicFramePr/>
          <p:nvPr/>
        </p:nvGraphicFramePr>
        <p:xfrm>
          <a:off x="304920" y="225360"/>
          <a:ext cx="1828800" cy="365040"/>
        </p:xfrm>
        <a:graphic>
          <a:graphicData uri="http://schemas.openxmlformats.org/drawingml/2006/table">
            <a:tbl>
              <a:tblPr/>
              <a:tblGrid>
                <a:gridCol w="1828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PITAL GOO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59"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60"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8304-3B01-47FC-BAA3-3A7EEA7ADD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304920" y="209520"/>
          <a:ext cx="8153280" cy="2382840"/>
        </p:xfrm>
        <a:graphic>
          <a:graphicData uri="http://schemas.openxmlformats.org/drawingml/2006/table">
            <a:tbl>
              <a:tblPr/>
              <a:tblGrid>
                <a:gridCol w="8153280"/>
              </a:tblGrid>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 “input” means any goods other than capital goods, subject to exceptions as ma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 provided under this Act or the rules made thereunder, used or intended to be used by a supplier for making an outward supply in the course or furtherance of busines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ods in turn is defined in 2(48) to mean every kind of movable property other than actionable claim and money and to include certain categories. It excluded intangi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graphicFrame>
        <p:nvGraphicFramePr>
          <p:cNvPr id="62" name=""/>
          <p:cNvGraphicFramePr/>
          <p:nvPr/>
        </p:nvGraphicFramePr>
        <p:xfrm>
          <a:off x="304920" y="225360"/>
          <a:ext cx="1828800" cy="365040"/>
        </p:xfrm>
        <a:graphic>
          <a:graphicData uri="http://schemas.openxmlformats.org/drawingml/2006/table">
            <a:tbl>
              <a:tblPr/>
              <a:tblGrid>
                <a:gridCol w="1828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PU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63"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64"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625C-9DC8-4E1A-B883-104EF4DAF9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65" name=""/>
          <p:cNvGraphicFramePr/>
          <p:nvPr/>
        </p:nvGraphicFramePr>
        <p:xfrm>
          <a:off x="380880" y="2495520"/>
          <a:ext cx="8153640" cy="183348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5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 “input service” means any service, subject to exceptions as may be provided under this Act or the rules made thereunder, used or intended to be used by a supplier for making an outward supply in the course or furtherance of busines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graphicFrame>
        <p:nvGraphicFramePr>
          <p:cNvPr id="66" name=""/>
          <p:cNvGraphicFramePr/>
          <p:nvPr/>
        </p:nvGraphicFramePr>
        <p:xfrm>
          <a:off x="380880" y="2511360"/>
          <a:ext cx="1828800" cy="365040"/>
        </p:xfrm>
        <a:graphic>
          <a:graphicData uri="http://schemas.openxmlformats.org/drawingml/2006/table">
            <a:tbl>
              <a:tblPr/>
              <a:tblGrid>
                <a:gridCol w="1828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PUT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609480" y="590400"/>
          <a:ext cx="8153640" cy="3297240"/>
        </p:xfrm>
        <a:graphic>
          <a:graphicData uri="http://schemas.openxmlformats.org/drawingml/2006/table">
            <a:tbl>
              <a:tblPr/>
              <a:tblGrid>
                <a:gridCol w="815364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PUT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Section 2(17) defines a business to include trade, commerce, manufacture, profession, vocation or any other similar activity; any transaction incidental of ancilliary to the abov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2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Frequency of transaction is not a criterion; club, association , society providing facilities or benefits to members constitutes busin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Admission to a premise for consideration is busin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Services supplied by holder of an office which has been accepted by him in the course or furtherance of trade, profession or vo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8"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69"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636B-3B05-47F5-A53B-40C4A7EA0C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 name=""/>
          <p:cNvGraphicFramePr/>
          <p:nvPr/>
        </p:nvGraphicFramePr>
        <p:xfrm>
          <a:off x="304920" y="1047600"/>
          <a:ext cx="8153280" cy="3754440"/>
        </p:xfrm>
        <a:graphic>
          <a:graphicData uri="http://schemas.openxmlformats.org/drawingml/2006/table">
            <a:tbl>
              <a:tblPr/>
              <a:tblGrid>
                <a:gridCol w="8153280"/>
              </a:tblGrid>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PUT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7) "input tax" in relation to a taxable person, means the {IGST and CGST}/{IG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SGST} charged on any supply of goods and/or services to him which are used,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intended to be used, in the course or furtherance of his business and includes the tax payable under sub-section (3) of section 7 [ REVERSE CHAR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ly of goods in the course of import is considered as supply in the course of interstate tra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7) Taxable supply means a supply of goods and/or services which is chargeable to tax under this Act. Non taxable supply not defined but exempt supply defined under 2(42) to mean supply of goods/services not taxable, specified in Schedule or which may be exempt under section 10. Goods/services absolutely exempt- credit can be taken as exemption becomes compulsor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71"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72"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FEB2D-B564-4C32-A8A5-BA9892C786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V.Raghuraman</a:t>
            </a:r>
            <a:endParaRPr b="0" lang="en-US" sz="1200" spc="-1" strike="noStrike">
              <a:solidFill>
                <a:srgbClr val="000000"/>
              </a:solidFill>
              <a:latin typeface="Arial"/>
            </a:endParaRPr>
          </a:p>
        </p:txBody>
      </p:sp>
      <p:sp>
        <p:nvSpPr>
          <p:cNvPr id="74" name="Slide Number Placeholder 5"/>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274A-FF30-475A-8C64-57071E80AA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75" name=""/>
          <p:cNvGraphicFramePr/>
          <p:nvPr/>
        </p:nvGraphicFramePr>
        <p:xfrm>
          <a:off x="609480" y="1123920"/>
          <a:ext cx="8153640" cy="2657520"/>
        </p:xfrm>
        <a:graphic>
          <a:graphicData uri="http://schemas.openxmlformats.org/drawingml/2006/table">
            <a:tbl>
              <a:tblPr/>
              <a:tblGrid>
                <a:gridCol w="8153640"/>
              </a:tblGrid>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PUT 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6) “input service distributor” means an office of the supplier of goods and / o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rvices which receives tax invoices issued under section 23 towards receipt of inpu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rvices and issues tax invoice or such other document as prescribed for the purposes of distributing the credit of CGST (SGST in State Acts) and / or IGST paid on the sai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rvices to a supplier of taxable goods and / or services having same PAN as that of the office referred to abov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lanation.- For the purposes of distributing the credit of CGST (SGST in State Ac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 or IGST, Input Service Distributor shall be deemed to be a supplier of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dministrator</dc:creator>
  <dc:description/>
  <dc:language>en-US</dc:language>
  <cp:lastModifiedBy>VR</cp:lastModifiedBy>
  <dcterms:modified xsi:type="dcterms:W3CDTF">2016-07-15T08:39:35Z</dcterms:modified>
  <cp:revision>390</cp:revision>
  <dc:subject/>
  <dc:title>Slide 1</dc:title>
</cp:coreProperties>
</file>