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8ACA2-0A2D-4008-88AC-BBB436AD9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FC2C3-91A0-4C3F-BCA0-117B8EFE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84C51-FB3F-48DD-AEAB-EA828A81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72497-DA81-4EEA-817A-237D14611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95241-C701-4C08-AAE5-7B8820721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900E3-B70C-4079-9956-F83347BF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FD9A-4799-4814-956B-ADF276F1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DE41-23E8-4C15-B886-86EA5FA32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2207-D400-4DC4-9936-342B47392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FBF83-6EFF-43A2-8B5A-743B1993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D6BB2-EB5F-4CCF-8D01-5DEB08BBA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8231-4EAF-4623-8F95-6F2381AF8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C1C6A-26E7-49B9-9134-F49B96B03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32A0C-ADEE-4C61-9592-20E474A85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6AA7-1012-43C6-B782-41DCC22ED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AA5C9-B65C-4006-9258-18950231C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7C5C9-1E09-447F-B2F4-1317DC2DA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0C0B-3FDF-4456-B31A-FDD4EED0B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9E157-08F5-4A8A-A9DF-CEFBCF2E3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1C18-8AB7-4F7E-AC56-7164DCEBA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E0A2D-7EA1-492B-A33B-6DB027493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8236E-3BE6-42A3-A719-C4AD9BB7F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351EE-6DA1-4D58-8ED7-A6AE521CD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A7976-38CC-4123-88C0-61C216562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B3B2A-B863-43F5-8854-493D5E041B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78839-D496-472D-A8B9-DC87CF7CE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18D17-FD2D-4E4F-BCCE-585065794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7CD6B-03FA-4AA6-91F9-44834E722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E3030-B29F-434E-AD45-611ED97AE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72ED9-BE08-41C6-880C-D992172E7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9DF0A-B9E6-4A4C-B488-B91FE5B3F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E3F75-665C-4E5A-BAAD-38205CCDD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40A02-91F3-480A-A642-4A84A119A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1575F8-600A-4E3D-8CFE-D101CA954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8382F7-0CF1-40C4-B720-7FBA9E09F6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BE2F66-AA4D-4A59-B377-AE29909AF9A1}"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
          <p:cNvPicPr/>
          <p:nvPr/>
        </p:nvPicPr>
        <p:blipFill>
          <a:blip r:embed="rId2"/>
          <a:stretch/>
        </p:blipFill>
        <p:spPr>
          <a:xfrm>
            <a:off x="0" y="-76320"/>
            <a:ext cx="9155160" cy="6935760"/>
          </a:xfrm>
          <a:prstGeom prst="rect">
            <a:avLst/>
          </a:prstGeom>
          <a:ln w="0">
            <a:noFill/>
          </a:ln>
        </p:spPr>
      </p:pic>
      <p:sp>
        <p:nvSpPr>
          <p:cNvPr id="38"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39"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40"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
          <p:cNvPicPr/>
          <p:nvPr/>
        </p:nvPicPr>
        <p:blipFill>
          <a:blip r:embed="rId2"/>
          <a:stretch/>
        </p:blipFill>
        <p:spPr>
          <a:xfrm>
            <a:off x="0" y="-76320"/>
            <a:ext cx="9155160" cy="6935760"/>
          </a:xfrm>
          <a:prstGeom prst="rect">
            <a:avLst/>
          </a:prstGeom>
          <a:ln w="0">
            <a:noFill/>
          </a:ln>
        </p:spPr>
      </p:pic>
      <p:sp>
        <p:nvSpPr>
          <p:cNvPr id="115"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116"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117"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7" descr=""/>
          <p:cNvPicPr/>
          <p:nvPr/>
        </p:nvPicPr>
        <p:blipFill>
          <a:blip r:embed="rId2"/>
          <a:stretch/>
        </p:blipFill>
        <p:spPr>
          <a:xfrm>
            <a:off x="0" y="7920"/>
            <a:ext cx="9144000" cy="6759720"/>
          </a:xfrm>
          <a:prstGeom prst="rect">
            <a:avLst/>
          </a:prstGeom>
          <a:ln w="0">
            <a:noFill/>
          </a:ln>
        </p:spPr>
      </p:pic>
      <p:sp>
        <p:nvSpPr>
          <p:cNvPr id="15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15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6092-5C97-4F4A-8833-6400897FD9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reeform 2"/>
          <p:cNvSpPr/>
          <p:nvPr/>
        </p:nvSpPr>
        <p:spPr>
          <a:xfrm>
            <a:off x="190440" y="-7920"/>
            <a:ext cx="6305760" cy="6346800"/>
          </a:xfrm>
          <a:custGeom>
            <a:avLst/>
            <a:gdLst/>
            <a:ahLst/>
            <a:rect l="l" t="t" r="r" b="b"/>
            <a:pathLst>
              <a:path w="6305910" h="6349041">
                <a:moveTo>
                  <a:pt x="569344" y="2268747"/>
                </a:moveTo>
                <a:lnTo>
                  <a:pt x="1630393" y="3571335"/>
                </a:lnTo>
                <a:lnTo>
                  <a:pt x="3096883" y="1846052"/>
                </a:lnTo>
                <a:lnTo>
                  <a:pt x="3545457" y="1380226"/>
                </a:lnTo>
                <a:lnTo>
                  <a:pt x="4201064" y="724618"/>
                </a:lnTo>
                <a:lnTo>
                  <a:pt x="5011947" y="0"/>
                </a:lnTo>
                <a:lnTo>
                  <a:pt x="6305910" y="0"/>
                </a:lnTo>
                <a:lnTo>
                  <a:pt x="5305245" y="1000664"/>
                </a:lnTo>
                <a:lnTo>
                  <a:pt x="4278702" y="2234241"/>
                </a:lnTo>
                <a:lnTo>
                  <a:pt x="3252159" y="3640347"/>
                </a:lnTo>
                <a:lnTo>
                  <a:pt x="2656936" y="4589252"/>
                </a:lnTo>
                <a:lnTo>
                  <a:pt x="2355011" y="5106837"/>
                </a:lnTo>
                <a:lnTo>
                  <a:pt x="2035834" y="5650301"/>
                </a:lnTo>
                <a:lnTo>
                  <a:pt x="1777042" y="6107501"/>
                </a:lnTo>
                <a:lnTo>
                  <a:pt x="1613140" y="6349041"/>
                </a:lnTo>
                <a:lnTo>
                  <a:pt x="750498" y="4796286"/>
                </a:lnTo>
                <a:lnTo>
                  <a:pt x="258793" y="4011283"/>
                </a:lnTo>
                <a:lnTo>
                  <a:pt x="0" y="3614468"/>
                </a:lnTo>
                <a:lnTo>
                  <a:pt x="569344" y="2268747"/>
                </a:lnTo>
                <a:close/>
              </a:path>
            </a:pathLst>
          </a:custGeom>
          <a:solidFill>
            <a:srgbClr val="13749d">
              <a:alpha val="1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7" descr=""/>
          <p:cNvPicPr/>
          <p:nvPr/>
        </p:nvPicPr>
        <p:blipFill>
          <a:blip r:embed="rId2"/>
          <a:stretch/>
        </p:blipFill>
        <p:spPr>
          <a:xfrm>
            <a:off x="0" y="7920"/>
            <a:ext cx="9144000" cy="6759720"/>
          </a:xfrm>
          <a:prstGeom prst="rect">
            <a:avLst/>
          </a:prstGeom>
          <a:ln w="0">
            <a:noFill/>
          </a:ln>
        </p:spPr>
      </p:pic>
      <p:sp>
        <p:nvSpPr>
          <p:cNvPr id="23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3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010D-3654-472B-AAD7-D792B6B4D4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ick to edit the outline text format</a:t>
            </a:r>
            <a:endParaRPr b="0" lang="en-US" sz="2800" spc="-1" strike="noStrike">
              <a:solidFill>
                <a:srgbClr val="000000"/>
              </a:solidFill>
              <a:latin typeface="Cambria"/>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cond Outline Level</a:t>
            </a:r>
            <a:endParaRPr b="0" lang="en-US" sz="2400" spc="-1" strike="noStrike">
              <a:solidFill>
                <a:srgbClr val="000000"/>
              </a:solidFill>
              <a:latin typeface="Cambr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urth Outline Level</a:t>
            </a:r>
            <a:endParaRPr b="0" lang="en-US" sz="1800" spc="-1" strike="noStrike">
              <a:solidFill>
                <a:srgbClr val="000000"/>
              </a:solidFill>
              <a:latin typeface="Cambria"/>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ifth Outline Level</a:t>
            </a:r>
            <a:endParaRPr b="0" lang="en-US" sz="1800" spc="-1" strike="noStrike">
              <a:solidFill>
                <a:srgbClr val="000000"/>
              </a:solidFill>
              <a:latin typeface="Cambri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ixth Outline Level</a:t>
            </a:r>
            <a:endParaRPr b="0" lang="en-US" sz="1800" spc="-1" strike="noStrike">
              <a:solidFill>
                <a:srgbClr val="000000"/>
              </a:solidFill>
              <a:latin typeface="Cambri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eventh Outline Level</a:t>
            </a:r>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7" descr=""/>
          <p:cNvPicPr/>
          <p:nvPr/>
        </p:nvPicPr>
        <p:blipFill>
          <a:blip r:embed="rId2"/>
          <a:stretch/>
        </p:blipFill>
        <p:spPr>
          <a:xfrm>
            <a:off x="0" y="7920"/>
            <a:ext cx="9144000" cy="6759720"/>
          </a:xfrm>
          <a:prstGeom prst="rect">
            <a:avLst/>
          </a:prstGeom>
          <a:ln w="0">
            <a:noFill/>
          </a:ln>
        </p:spPr>
      </p:pic>
      <p:sp>
        <p:nvSpPr>
          <p:cNvPr id="2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E86C-A816-4299-B074-749792BFFA5B}" type="slidenum">
              <a:rPr b="0" lang="en-I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gst.gov.in/" TargetMode="External"/><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304920"/>
            <a:ext cx="7772400" cy="838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ST Certification Course</a:t>
            </a:r>
            <a:endParaRPr b="0" lang="en-US" sz="4400" spc="-1" strike="noStrike">
              <a:solidFill>
                <a:srgbClr val="000000"/>
              </a:solidFill>
              <a:latin typeface="Calibri"/>
            </a:endParaRPr>
          </a:p>
        </p:txBody>
      </p:sp>
      <p:sp>
        <p:nvSpPr>
          <p:cNvPr id="314" name="PlaceHolder 2"/>
          <p:cNvSpPr>
            <a:spLocks noGrp="1"/>
          </p:cNvSpPr>
          <p:nvPr>
            <p:ph type="subTitle"/>
          </p:nvPr>
        </p:nvSpPr>
        <p:spPr>
          <a:xfrm>
            <a:off x="533160" y="1066320"/>
            <a:ext cx="7848360" cy="4953240"/>
          </a:xfrm>
          <a:prstGeom prst="rect">
            <a:avLst/>
          </a:prstGeom>
          <a:noFill/>
          <a:ln w="0">
            <a:noFill/>
          </a:ln>
        </p:spPr>
        <p:txBody>
          <a:bodyPr lIns="90000" rIns="90000" tIns="46800" bIns="46800" anchor="t">
            <a:noAutofit/>
          </a:bodyPr>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Regular &amp; Composition Registr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E- Commerce Operator- Meaning of “As if “ Supplier</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Supplier behind E-Commerce Operator’s Brand</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 and Contract Manufacturing</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er’s privilege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Master servant relationship</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Inter branch Vs. Head office branch rel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Business Vertical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Optimization of number of registrations (States)</a:t>
            </a:r>
            <a:endParaRPr b="0" lang="en-US" sz="2800" spc="-1" strike="noStrike">
              <a:solidFill>
                <a:srgbClr val="000000"/>
              </a:solidFill>
              <a:latin typeface="Cambria"/>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 </a:t>
            </a:r>
            <a:endParaRPr b="0" lang="en-US" sz="2800" spc="-1" strike="noStrike">
              <a:solidFill>
                <a:srgbClr val="000000"/>
              </a:solidFill>
              <a:latin typeface="Cambri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15192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Distinct Persons</a:t>
            </a:r>
            <a:endParaRPr b="0" lang="en-US" sz="4400" spc="-1" strike="noStrike">
              <a:solidFill>
                <a:srgbClr val="000000"/>
              </a:solidFill>
              <a:latin typeface="Calibri"/>
            </a:endParaRPr>
          </a:p>
        </p:txBody>
      </p:sp>
      <p:sp>
        <p:nvSpPr>
          <p:cNvPr id="332" name="TextBox 5"/>
          <p:cNvSpPr/>
          <p:nvPr/>
        </p:nvSpPr>
        <p:spPr>
          <a:xfrm>
            <a:off x="304920" y="838080"/>
            <a:ext cx="853416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 25(4) A person who has obtained or is required to obtain more than one registration, whether in one State or Union territory or more than one State or Union territory shall, in respect of each such registration, be treated as distinct persons for the purposes of this Act. </a:t>
            </a:r>
            <a:r>
              <a:rPr b="1" lang="en-IN" sz="2000" spc="-1" strike="noStrike">
                <a:solidFill>
                  <a:srgbClr val="000000"/>
                </a:solidFill>
                <a:latin typeface="Cambria"/>
              </a:rPr>
              <a:t>[ Both are taxable persons]</a:t>
            </a:r>
            <a:r>
              <a:rPr b="0" lang="en-IN" sz="2000" spc="-1" strike="noStrike">
                <a:solidFill>
                  <a:srgbClr val="000000"/>
                </a:solidFill>
                <a:latin typeface="Cambria"/>
              </a:rPr>
              <a:t>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25(5) Where a person who has obtained or is required to obtain registration in a State or Union territory in respect of an establishment, has an establishment in another State or Union territory, then such establishments shall be treated as establishments of distinct persons for the purposes of this Act. [</a:t>
            </a:r>
            <a:r>
              <a:rPr b="1" lang="en-IN" sz="2000" spc="-1" strike="noStrike">
                <a:solidFill>
                  <a:srgbClr val="000000"/>
                </a:solidFill>
                <a:latin typeface="Cambria"/>
              </a:rPr>
              <a:t>one is taxable person and other may be non taxable person</a:t>
            </a:r>
            <a:r>
              <a:rPr b="0" lang="en-IN" sz="2000" spc="-1" strike="noStrike">
                <a:solidFill>
                  <a:srgbClr val="000000"/>
                </a:solidFill>
                <a:latin typeface="Cambria"/>
              </a:rPr>
              <a:t>]</a:t>
            </a:r>
            <a:endParaRPr b="0" lang="en-US" sz="2000" spc="-1" strike="noStrike">
              <a:solidFill>
                <a:srgbClr val="000000"/>
              </a:solidFill>
              <a:latin typeface="Cambr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Garamond"/>
              </a:rPr>
              <a:t>Clause 2 of Schedule I of the CGST ACT</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upply of goods or services or both between related persons or between distinct persons as specified in section 25, when made in the course or furtherance of busines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Provided that gifts not exceeding fifty thousand rupees in value in a financial year by an employer to an employee shall not be treated as supply of goods or services or both.</a:t>
            </a: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4" name="Title 1"/>
          <p:cNvSpPr/>
          <p:nvPr/>
        </p:nvSpPr>
        <p:spPr>
          <a:xfrm>
            <a:off x="838080" y="1821960"/>
            <a:ext cx="7239240" cy="1902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Practical Approach</a:t>
            </a:r>
            <a:endParaRPr b="0" lang="en-US" sz="4400" spc="-1" strike="noStrike">
              <a:solidFill>
                <a:srgbClr val="000000"/>
              </a:solidFill>
              <a:latin typeface="Cambri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4"/>
          <p:cNvSpPr/>
          <p:nvPr/>
        </p:nvSpPr>
        <p:spPr>
          <a:xfrm>
            <a:off x="457200" y="1676520"/>
            <a:ext cx="82296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9b8"/>
                </a:solidFill>
                <a:uFillTx/>
                <a:latin typeface="Calibri"/>
              </a:rPr>
              <a:t>Step 1 -</a:t>
            </a:r>
            <a:br>
              <a:rPr sz="2800"/>
            </a:br>
            <a:br>
              <a:rPr sz="2800"/>
            </a:br>
            <a:r>
              <a:rPr b="0" lang="en-US" sz="2000" spc="-1" strike="noStrike">
                <a:solidFill>
                  <a:srgbClr val="000000"/>
                </a:solidFill>
                <a:latin typeface="Calibri"/>
              </a:rPr>
              <a:t>1. Login to </a:t>
            </a:r>
            <a:r>
              <a:rPr b="0" lang="en-US" sz="2000" spc="-1" strike="noStrike" u="sng">
                <a:solidFill>
                  <a:srgbClr val="0563c1"/>
                </a:solidFill>
                <a:uFillTx/>
                <a:latin typeface="Calibri"/>
                <a:hlinkClick r:id="rId1"/>
              </a:rPr>
              <a:t>www.gst.gov.in</a:t>
            </a:r>
            <a:br>
              <a:rPr sz="2000"/>
            </a:br>
            <a:br>
              <a:rPr sz="2000"/>
            </a:br>
            <a:r>
              <a:rPr b="0" lang="en-US" sz="2000" spc="-1" strike="noStrike">
                <a:solidFill>
                  <a:srgbClr val="000000"/>
                </a:solidFill>
                <a:latin typeface="Calibri"/>
              </a:rPr>
              <a:t>2. Begin the application process as a “New User” or “Existing User”.</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3. Use the Provisional ID and the password supplied by the state VAT department, Service Tax, Excise etc.(If you don’t have provisional ID contact to your state VAT department.)</a:t>
            </a:r>
            <a:br>
              <a:rPr sz="2400"/>
            </a:br>
            <a:br>
              <a:rPr sz="2400"/>
            </a:br>
            <a:r>
              <a:rPr b="0" lang="en-US" sz="2000" spc="-1" strike="noStrike">
                <a:solidFill>
                  <a:srgbClr val="000000"/>
                </a:solidFill>
                <a:latin typeface="Calibri"/>
              </a:rPr>
              <a:t>4. On next page fill the details to generate OTP(One Time Password) and subsequently, password for your login.</a:t>
            </a:r>
            <a:br>
              <a:rPr sz="2000"/>
            </a:br>
            <a:br>
              <a:rPr sz="2000"/>
            </a:br>
            <a:r>
              <a:rPr b="0" lang="en-US" sz="2000" spc="-1" strike="noStrike">
                <a:solidFill>
                  <a:srgbClr val="000000"/>
                </a:solidFill>
                <a:latin typeface="Calibri"/>
              </a:rPr>
              <a:t>5. On the next web page, answer the security questions —these will come handy should you ever forget your login details.</a:t>
            </a:r>
            <a:endParaRPr b="0" lang="en-US" sz="2000" spc="-1" strike="noStrike">
              <a:solidFill>
                <a:srgbClr val="000000"/>
              </a:solidFill>
              <a:latin typeface="Cambria"/>
            </a:endParaRPr>
          </a:p>
        </p:txBody>
      </p:sp>
      <p:sp>
        <p:nvSpPr>
          <p:cNvPr id="33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7" name="Title 1"/>
          <p:cNvSpPr/>
          <p:nvPr/>
        </p:nvSpPr>
        <p:spPr>
          <a:xfrm>
            <a:off x="304920" y="764280"/>
            <a:ext cx="7238880" cy="69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r>
              <a:rPr b="1" lang="en-US" sz="4400" spc="-1" strike="noStrike">
                <a:solidFill>
                  <a:srgbClr val="385723"/>
                </a:solidFill>
                <a:latin typeface="Calibri"/>
              </a:rPr>
              <a:t>….</a:t>
            </a:r>
            <a:endParaRPr b="0" lang="en-US" sz="4400" spc="-1" strike="noStrike">
              <a:solidFill>
                <a:srgbClr val="000000"/>
              </a:solidFill>
              <a:latin typeface="Cambri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9"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0" name="Title 14"/>
          <p:cNvSpPr/>
          <p:nvPr/>
        </p:nvSpPr>
        <p:spPr>
          <a:xfrm>
            <a:off x="457200" y="1371600"/>
            <a:ext cx="8001000" cy="3657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u="sng">
                <a:solidFill>
                  <a:srgbClr val="0069b8"/>
                </a:solidFill>
                <a:uFillTx/>
                <a:latin typeface="Calibri"/>
              </a:rPr>
              <a:t>Step 2 -</a:t>
            </a:r>
            <a:br>
              <a:rPr sz="2400"/>
            </a:br>
            <a:br>
              <a:rPr sz="2400"/>
            </a:br>
            <a:r>
              <a:rPr b="0" lang="en-US" sz="2000" spc="-1" strike="noStrike">
                <a:solidFill>
                  <a:srgbClr val="000000"/>
                </a:solidFill>
                <a:latin typeface="Calibri"/>
              </a:rPr>
              <a:t>1. The details that will already be filled ar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PAN)</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current tax act)</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N of business</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te</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Trade Name’ can be edited, and the application should ensure that other pending details are filled accurately.</a:t>
            </a:r>
            <a:endParaRPr b="0" lang="en-US" sz="2000" spc="-1" strike="noStrike">
              <a:solidFill>
                <a:srgbClr val="000000"/>
              </a:solidFill>
              <a:latin typeface="Cambria"/>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2"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3" name="Title 14"/>
          <p:cNvSpPr/>
          <p:nvPr/>
        </p:nvSpPr>
        <p:spPr>
          <a:xfrm>
            <a:off x="447840" y="1600200"/>
            <a:ext cx="7781760" cy="37339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3 -</a:t>
            </a:r>
            <a:br>
              <a:rPr sz="2400"/>
            </a:b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next page revolves around the personal particulars of the promoters/owner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It is a straightforward process and should be a breeze for any applicant possessing the informa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If the stakeholder is also the Authorized Signatory, then select the “Also Authorized Signatory” op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5"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6" name="Title 14"/>
          <p:cNvSpPr/>
          <p:nvPr/>
        </p:nvSpPr>
        <p:spPr>
          <a:xfrm>
            <a:off x="380880" y="1523880"/>
            <a:ext cx="8077320" cy="35053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4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Upon nominating yourself as the Authorized Signatory, you will have to replicate the procedure in Step 3, using your personal detail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gain, nothing technical, —just a tedious fill-in-the-blanks process.</a:t>
            </a:r>
            <a:endParaRPr b="0" lang="en-US" sz="2000" spc="-1" strike="noStrike">
              <a:solidFill>
                <a:srgbClr val="000000"/>
              </a:solidFill>
              <a:latin typeface="Cambri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8"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9" name="Title 14"/>
          <p:cNvSpPr/>
          <p:nvPr/>
        </p:nvSpPr>
        <p:spPr>
          <a:xfrm>
            <a:off x="380880" y="1676520"/>
            <a:ext cx="7848720" cy="2971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5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Here is some technical part begins. For the “Principal Place of Business,” fill in the complete official address and the official contact details and submit documentary evidence for the sam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is is to be duplicated on the next web page, i.e., “Additional Places of Business.”’.                          </a:t>
            </a:r>
            <a:r>
              <a:rPr b="0" lang="en-US" sz="2000" spc="-1" strike="noStrike">
                <a:solidFill>
                  <a:srgbClr val="5f6062"/>
                </a:solidFill>
                <a:latin typeface="Arial"/>
                <a:ea typeface="Arial"/>
              </a:rPr>
              <a:t>                                                </a:t>
            </a:r>
            <a:endParaRPr b="0" lang="en-US" sz="2000" spc="-1" strike="noStrike">
              <a:solidFill>
                <a:srgbClr val="000000"/>
              </a:solidFill>
              <a:latin typeface="Cambria"/>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1"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2" name="Title 14"/>
          <p:cNvSpPr/>
          <p:nvPr/>
        </p:nvSpPr>
        <p:spPr>
          <a:xfrm>
            <a:off x="380880" y="1752480"/>
            <a:ext cx="8305920" cy="2438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6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On the ensuing web page after completing the STEP 5, fill in the information relating to the goods and services provided by your busines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On the “Goods” tab, you must include  details relating to the relevant HSN applicable to your business.</a:t>
            </a:r>
            <a:endParaRPr b="0" lang="en-US" sz="2000" spc="-1" strike="noStrike">
              <a:solidFill>
                <a:srgbClr val="000000"/>
              </a:solidFill>
              <a:latin typeface="Cambri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4"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5" name="Title 14"/>
          <p:cNvSpPr/>
          <p:nvPr/>
        </p:nvSpPr>
        <p:spPr>
          <a:xfrm>
            <a:off x="457200" y="1806480"/>
            <a:ext cx="8077320" cy="39085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7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Link the bank account on the following page after completing Step 6.</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e next page should include details relating to the substantiation of the application and will require a Digitally Signed Certificate or E-signature.</a:t>
            </a:r>
            <a:endParaRPr b="0" lang="en-US" sz="2000" spc="-1" strike="noStrike">
              <a:solidFill>
                <a:srgbClr val="000000"/>
              </a:solidFill>
              <a:latin typeface="Cambri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7"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8" name="Title 14"/>
          <p:cNvSpPr/>
          <p:nvPr/>
        </p:nvSpPr>
        <p:spPr>
          <a:xfrm>
            <a:off x="457200" y="1349280"/>
            <a:ext cx="7848720" cy="4060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8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process on the applicant’s end is now complet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n acknowledgement confirming your registration for GST should be transmitted to your email and phone number within few minutes.</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enrolment procedure calls for multiple submissions of several details for a single entity, as well as for every other body under the aegis of the applicant. Such monotonous and duplication of study can cause clerical errors. These can be avoided by using specialized software.</a:t>
            </a:r>
            <a:endParaRPr b="0" lang="en-US" sz="2000" spc="-1" strike="noStrike">
              <a:solidFill>
                <a:srgbClr val="000000"/>
              </a:solidFill>
              <a:latin typeface="Cambri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152280"/>
            <a:ext cx="8534160" cy="1470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6" name="Rectangle 4"/>
          <p:cNvSpPr/>
          <p:nvPr/>
        </p:nvSpPr>
        <p:spPr>
          <a:xfrm>
            <a:off x="304920" y="1447920"/>
            <a:ext cx="8001000" cy="6434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registration is a Compulsion whereas registration under Composition Scheme is optional.</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Quarterly return for a composition dealer vs. Monthly returns for Regular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gular assessee will issue a Tax invoice whereas Composition dealer will issue Bill of Supply.</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the Registrations can be applied through the same process.</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reshold limit for regular registration 10/20 lacs whereas limit for composition is up to 50 lac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853416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8" name="Rectangle 4"/>
          <p:cNvSpPr/>
          <p:nvPr/>
        </p:nvSpPr>
        <p:spPr>
          <a:xfrm>
            <a:off x="304920" y="1066680"/>
            <a:ext cx="8001000" cy="5763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tax threshold will be computed for the ongoing financial year whereas the composition threshold will be computed for previous financial yea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has to be opted for all the registered persons having same PAN numb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Input Credit will be allowed and no output tax can be charged by a Composition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is financially beneficial if the Gross Margin is higher than 6% for a Trader, 12% for a manufacturer and 28% for a restaurant.</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0" name="Rectangle 4"/>
          <p:cNvSpPr/>
          <p:nvPr/>
        </p:nvSpPr>
        <p:spPr>
          <a:xfrm>
            <a:off x="304920" y="1219320"/>
            <a:ext cx="800100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t>
            </a:r>
            <a:r>
              <a:rPr b="1" lang="en-US" sz="2000" spc="-1" strike="noStrike">
                <a:solidFill>
                  <a:srgbClr val="000000"/>
                </a:solidFill>
                <a:latin typeface="Cambria"/>
              </a:rPr>
              <a:t>Electronic Commerce</a:t>
            </a:r>
            <a:r>
              <a:rPr b="0" lang="en-US" sz="2000" spc="-1" strike="noStrike">
                <a:solidFill>
                  <a:srgbClr val="000000"/>
                </a:solidFill>
                <a:latin typeface="Cambria"/>
              </a:rPr>
              <a:t>” means the supply of goods or services or both, including digital products over digital or electronic network.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t>
            </a:r>
            <a:r>
              <a:rPr b="0" lang="en-IN" sz="2000" spc="-1" strike="noStrike">
                <a:solidFill>
                  <a:srgbClr val="000000"/>
                </a:solidFill>
                <a:latin typeface="Cambria"/>
              </a:rPr>
              <a:t>E</a:t>
            </a:r>
            <a:r>
              <a:rPr b="1" lang="en-IN" sz="2000" spc="-1" strike="noStrike">
                <a:solidFill>
                  <a:srgbClr val="000000"/>
                </a:solidFill>
                <a:latin typeface="Cambria"/>
              </a:rPr>
              <a:t>lectronic commerce operator</a:t>
            </a:r>
            <a:r>
              <a:rPr b="0" lang="en-IN" sz="2000" spc="-1" strike="noStrike">
                <a:solidFill>
                  <a:srgbClr val="000000"/>
                </a:solidFill>
                <a:latin typeface="Cambria"/>
              </a:rPr>
              <a:t>” means any person who owns, operates or manages digital or electronic facility or platform for electronic commerce;</a:t>
            </a:r>
            <a:r>
              <a:rPr b="0" lang="en-US" sz="2000" spc="-1" strike="noStrike">
                <a:solidFill>
                  <a:srgbClr val="000000"/>
                </a:solidFill>
                <a:latin typeface="Cambria"/>
              </a:rPr>
              <a:t>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ny person required to deduct tax in accordance with the provisions of section 51 or a person required to collect tax at source in accordance with the provisions of section 52 shall electronically submit an application, duly signed, in FORM GST REG-07 for grant of registration through the Common Portal, either directly or from a Facilitation Centre notified by the Commissioner. </a:t>
            </a:r>
            <a:r>
              <a:rPr b="1" lang="en-US" sz="2000" spc="-1" strike="noStrike">
                <a:solidFill>
                  <a:srgbClr val="000000"/>
                </a:solidFill>
                <a:latin typeface="Cambria"/>
              </a:rPr>
              <a:t>[Rule 5(1)]</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2" name="TextBox 5"/>
          <p:cNvSpPr/>
          <p:nvPr/>
        </p:nvSpPr>
        <p:spPr>
          <a:xfrm>
            <a:off x="304920" y="1143000"/>
            <a:ext cx="85341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 {9(5)}: The Government may, on the recommendations of the Council, by notification, specify categories of services the tax on intra-State supplies of which shall be paid by the electronic commerce operator if such services are supplied through it, and all the provisions of this Act shall apply to such electronic commerce operator </a:t>
            </a:r>
            <a:r>
              <a:rPr b="1" lang="en-US" sz="2000" spc="-1" strike="noStrike">
                <a:solidFill>
                  <a:srgbClr val="000000"/>
                </a:solidFill>
                <a:latin typeface="Cambria"/>
              </a:rPr>
              <a:t>as if</a:t>
            </a:r>
            <a:r>
              <a:rPr b="0" lang="en-US" sz="2000" spc="-1" strike="noStrike">
                <a:solidFill>
                  <a:srgbClr val="000000"/>
                </a:solidFill>
                <a:latin typeface="Cambria"/>
              </a:rPr>
              <a:t> he is the supplier liable for paying the tax in relation to the supply of such services.</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that where an electronic commerce operator does not have a physical presence in the taxable territory, any person representing such electronic commerce operator for any purpose in the taxable territory shall be liable to pay tax.</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further that where an electronic commerce operator does not have a physical presence in the taxable territory and also he does not have a representative in the said territory, such electronic commerce operator shall appoint a person in the taxable territory for the purpose of paying tax and such person shall be liable to pay tax.</a:t>
            </a:r>
            <a:endParaRPr b="0" lang="en-US" sz="2000" spc="-1" strike="noStrike">
              <a:solidFill>
                <a:srgbClr val="000000"/>
              </a:solidFill>
              <a:latin typeface="Cambria"/>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4" name="TextBox 5"/>
          <p:cNvSpPr/>
          <p:nvPr/>
        </p:nvSpPr>
        <p:spPr>
          <a:xfrm>
            <a:off x="304920" y="12193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ulsory registration irrespective of the turnover limit for:</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are required to pay tax under sub-section (5) of section 9 (services notified by govt.  for which tax to be paid by E-commerce operators, if provided through it.)</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supply goods or services or both, other than supplies specified under sub-section (5) of section 9, through such electronic commerce operator who is required to collect tax at source under section 52.</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very electronic commerce operator.</a:t>
            </a:r>
            <a:endParaRPr b="0" lang="en-US" sz="2400" spc="-1" strike="noStrike">
              <a:solidFill>
                <a:srgbClr val="000000"/>
              </a:solidFill>
              <a:latin typeface="Cambri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er’s Privileges</a:t>
            </a:r>
            <a:endParaRPr b="0" lang="en-US" sz="4400" spc="-1" strike="noStrike">
              <a:solidFill>
                <a:srgbClr val="000000"/>
              </a:solidFill>
              <a:latin typeface="Calibri"/>
            </a:endParaRPr>
          </a:p>
        </p:txBody>
      </p:sp>
      <p:sp>
        <p:nvSpPr>
          <p:cNvPr id="326" name="TextBox 5"/>
          <p:cNvSpPr/>
          <p:nvPr/>
        </p:nvSpPr>
        <p:spPr>
          <a:xfrm>
            <a:off x="304920" y="1371600"/>
            <a:ext cx="853416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a:t>
            </a:r>
            <a:r>
              <a:rPr b="0" lang="en-IN" sz="2400" spc="-1" strike="noStrike">
                <a:solidFill>
                  <a:srgbClr val="000000"/>
                </a:solidFill>
                <a:latin typeface="Cambria"/>
              </a:rPr>
              <a:t>job work” means any treatment or process undertaken by a person on goods belonging to another registered person and the expression “job worker” shall be construed accordingly; [Sec. 2(68)]</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Job Worker may or may not be required to be registered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The responsibility for keeping proper accounts for the inputs or capital goods shall lie with the principal. [Sec. 143(2)]</a:t>
            </a: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 Vs Contract Manufacturing</a:t>
            </a:r>
            <a:endParaRPr b="0" lang="en-US" sz="4400" spc="-1" strike="noStrike">
              <a:solidFill>
                <a:srgbClr val="000000"/>
              </a:solidFill>
              <a:latin typeface="Calibri"/>
            </a:endParaRPr>
          </a:p>
        </p:txBody>
      </p:sp>
      <p:sp>
        <p:nvSpPr>
          <p:cNvPr id="328" name="TextBox 5"/>
          <p:cNvSpPr/>
          <p:nvPr/>
        </p:nvSpPr>
        <p:spPr>
          <a:xfrm>
            <a:off x="304920" y="1447920"/>
            <a:ext cx="853416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 is primarily performed on the Principal Manufacturers Good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nder Contract Manufacturing the goods are purchased by the Contract Manufacturer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er may or may not be registered separately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tract Manufacturer will need to get himself registered.</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ce of Job Worker can be declared as “</a:t>
            </a:r>
            <a:r>
              <a:rPr b="1" lang="en-US" sz="2400" spc="-1" strike="noStrike">
                <a:solidFill>
                  <a:srgbClr val="000000"/>
                </a:solidFill>
                <a:latin typeface="Cambria"/>
              </a:rPr>
              <a:t>Additional place of Business” </a:t>
            </a:r>
            <a:r>
              <a:rPr b="0" lang="en-US" sz="2400" spc="-1" strike="noStrike">
                <a:solidFill>
                  <a:srgbClr val="000000"/>
                </a:solidFill>
                <a:latin typeface="Cambria"/>
              </a:rPr>
              <a:t>by a Principal.</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Job Worker may or may not use any inputs of his own but the Contract Manufacturer uses the inputs/ raw material of his own.</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Business Vertical</a:t>
            </a:r>
            <a:endParaRPr b="0" lang="en-US" sz="4400" spc="-1" strike="noStrike">
              <a:solidFill>
                <a:srgbClr val="000000"/>
              </a:solidFill>
              <a:latin typeface="Calibri"/>
            </a:endParaRPr>
          </a:p>
        </p:txBody>
      </p:sp>
      <p:sp>
        <p:nvSpPr>
          <p:cNvPr id="330" name="TextBox 5"/>
          <p:cNvSpPr/>
          <p:nvPr/>
        </p:nvSpPr>
        <p:spPr>
          <a:xfrm>
            <a:off x="304920" y="1219320"/>
            <a:ext cx="853416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t>
            </a:r>
            <a:r>
              <a:rPr b="1" lang="en-IN" sz="2000" spc="-1" strike="noStrike">
                <a:solidFill>
                  <a:srgbClr val="000000"/>
                </a:solidFill>
                <a:latin typeface="Cambria"/>
              </a:rPr>
              <a:t>business vertical”</a:t>
            </a:r>
            <a:r>
              <a:rPr b="0" lang="en-IN" sz="2000" spc="-1" strike="noStrike">
                <a:solidFill>
                  <a:srgbClr val="000000"/>
                </a:solidFill>
                <a:latin typeface="Cambria"/>
              </a:rPr>
              <a:t> means a distinguishable component of an enterprise that is engaged in the supply of individual goods or services or a group of related goods or services which is subject to risks and returns that are different from those of the other business verticals.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xplanation.––For the purposes of this clause, factors that should be considered in determining whether goods or services are related include––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 the nature of the goods or services;</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b) the nature of the production process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c) the type or class of customers for the goods or servic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d) the methods used to distribute the goods or supply of services; and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 the nature of regulatory environment (wherever applicable), including banking, insurance, or public utilities;</a:t>
            </a:r>
            <a:endParaRPr b="0" lang="en-US" sz="2000" spc="-1" strike="noStrike">
              <a:solidFill>
                <a:srgbClr val="000000"/>
              </a:solidFill>
              <a:latin typeface="Cambri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noj</dc:creator>
  <dc:description/>
  <dc:language>en-US</dc:language>
  <cp:lastModifiedBy>Manoj</cp:lastModifiedBy>
  <dcterms:modified xsi:type="dcterms:W3CDTF">2017-05-07T07:26:27Z</dcterms:modified>
  <cp:revision>54</cp:revision>
  <dc:subject/>
  <dc:title>Slide 1</dc:title>
</cp:coreProperties>
</file>